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AD04-DB29-4452-8699-EA24CCE7A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EA8F-5F77-4804-A7B7-06305ECF2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6709-0DB8-4611-9CF6-74E1A7A8B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951D-8CEF-4C0B-A051-FB9A8B66E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A8B0-BCC1-4BA3-8B88-6323629A9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4C62-FF8F-4228-9DB7-F79C4B200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6D2C-112D-4FEA-A51C-EB8620317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EAB3-3B35-495E-A58E-9C3363DF2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C796-340A-408C-8CD1-BB6D174FE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CFF4-D2B3-4C31-8234-7264C601E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7264-DF64-48C0-AD3E-3541161C0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21E7-EADD-4005-9AA8-67CF47918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2F6F4-9090-4A30-B6A7-5E79189B27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2720" y="692280"/>
            <a:ext cx="7918560" cy="41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Исследование  качества иноязычного образования в Ставропольском крае и </a:t>
            </a: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Georgia"/>
              </a:rPr>
              <a:t>учет результатов оценочных процедур преподавания предме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амках НИКО проверяется, насколько обучающиеся овладели на элементарном уровне устной и письменной речью на иностранном язык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лавный критерий при оценивании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насколько успешно учащемуся удалось справиться с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шением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ммуникационной задачи.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942840" y="62064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содержит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сть задани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я составляют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ную час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-  проверяется умение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мысленно прочитать текст вслух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– способность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ворить на иностранном язык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по чтению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ует понимания прочитанного текст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имать звучащий текс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соотносить его с определенной жизненной ситуацией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9144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 задания по грамматике и лексике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авить пропущенное слово, выбрав его из списк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требить определенную часть речи в нужной форме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54061"/>
                </a:solidFill>
                <a:latin typeface="Calibri"/>
              </a:rPr>
              <a:t>Как используются результаты исследований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Результаты исследований могут быть использованы ОО, муниципальными и региональными органами исполнительной власти для анализа текущего состояния системы образован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2540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формирования программ её развит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2540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редусмотрено использование результатов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занных исследований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ки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ятельности ОО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ей, муниципальных и региональных органов исполнительной власти</a:t>
            </a:r>
            <a:r>
              <a:rPr b="1" i="1" lang="ru-RU" sz="28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4061"/>
                </a:solidFill>
                <a:latin typeface="Calibri"/>
              </a:rPr>
              <a:t>Как применяют модели и материалы проекта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0429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2540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Calibri"/>
              </a:rPr>
              <a:t>Обсуждение результатов и перспективных направлений развития системы оценки качества образования будет проводиться ежегодно в рамках межрегиональных конференций по оценке качества образов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2540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Calibri"/>
              </a:rPr>
              <a:t>По результатам проекта будет создан открытый банк заданий для проведения процедур оценки, аналогичных проектны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Всероссийские проверочные работы  </a:t>
            </a: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(ВПР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763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Основные принцип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Не ЕГЭ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Банки зада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Единая система оценив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Варианты по часовым пояс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Единый день провед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Использование результатов ВПР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914400" y="105264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                            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На федеральном уровн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мониторинг результатов введения ФГОС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формирование базы результатов обучающихся, в перспективе – обеспечение возможности учета результатов в качестве портфоли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                             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На региональном уровн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своевременная корректировка отдельных аспектов в системе общего образова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основания для планирования контрольно-надзорной деятель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                         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На уровне образовательной организаци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корректировка образовательного процес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solidFill>
            <a:srgbClr val="d9969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Анализ типичных ошибок, допущенных участниками РП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539640" y="2362320"/>
          <a:ext cx="8353440" cy="3659040"/>
        </p:xfrm>
        <a:graphic>
          <a:graphicData uri="http://schemas.openxmlformats.org/drawingml/2006/table">
            <a:tbl>
              <a:tblPr/>
              <a:tblGrid>
                <a:gridCol w="4181760"/>
                <a:gridCol w="4171680"/>
              </a:tblGrid>
              <a:tr h="183024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07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ve some more cakes! _________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1224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07000"/>
                        </a:lnSpc>
                        <a:buClr>
                          <a:srgbClr val="000000"/>
                        </a:buClr>
                        <a:buFont typeface="Calibri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, it’s fin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7000"/>
                        </a:lnSpc>
                        <a:buClr>
                          <a:srgbClr val="000000"/>
                        </a:buClr>
                        <a:buFont typeface="Calibri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, that’s tasty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7000"/>
                        </a:lnSpc>
                        <a:buClr>
                          <a:srgbClr val="000000"/>
                        </a:buClr>
                        <a:buFont typeface="Calibri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ank you, I’ll have one mor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1224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182880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07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 long is your music class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______________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1224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07000"/>
                        </a:lnSpc>
                        <a:buClr>
                          <a:srgbClr val="000000"/>
                        </a:buClr>
                        <a:buFont typeface="Calibri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’s one o’clock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7000"/>
                        </a:lnSpc>
                        <a:buClr>
                          <a:srgbClr val="000000"/>
                        </a:buClr>
                        <a:buFont typeface="Calibri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lf an hou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7000"/>
                        </a:lnSpc>
                        <a:buClr>
                          <a:srgbClr val="000000"/>
                        </a:buClr>
                        <a:buFont typeface="Calibri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 3 p.m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1224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72" name="Rectangle 1"/>
          <p:cNvSpPr/>
          <p:nvPr/>
        </p:nvSpPr>
        <p:spPr>
          <a:xfrm>
            <a:off x="324000" y="1528200"/>
            <a:ext cx="856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дание по чтению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бери правильную ответную реплику из трех предложенных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640" y="0"/>
            <a:ext cx="9144000" cy="1450800"/>
          </a:xfrm>
          <a:prstGeom prst="rect">
            <a:avLst/>
          </a:prstGeom>
          <a:solidFill>
            <a:srgbClr val="d9969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Анализ типичных ошибок, допущенных участниками РП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Прямоугольник 4"/>
          <p:cNvSpPr/>
          <p:nvPr/>
        </p:nvSpPr>
        <p:spPr>
          <a:xfrm>
            <a:off x="457200" y="1450800"/>
            <a:ext cx="8229600" cy="47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 все учащиеся данной возрастной группы могут правильно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NewRomanPSMT"/>
              </a:rPr>
              <a:t>отбирать языковые средства и соблюдать правила речевого поведения в соответствии с коммуникативной ситуацией и нормами языкового этикета страны изучаемого языка. Хотя, подавляющее большинство правильно выполнило это задание. Например, некоторых участников могло смутить слово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NewRomanPSMT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NewRomanPSMT"/>
              </a:rPr>
              <a:t>MORE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NewRomanPSMT"/>
              </a:rPr>
              <a:t>”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NewRomanPSMT"/>
              </a:rPr>
              <a:t> , которое встречается и в вопросе, и в одном из вариантов ответов. В данном случае учащийся должен обращать внимание на контекст, а не полагаться на наличие одинаковых слов в вопросах и ответа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solidFill>
            <a:srgbClr val="d9969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Анализ типичных ошибок, допущенных участниками РП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Задание 2. Прочитай текст.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Выбери правильное окончание предложений согласно информации из текста и обведи свой ответ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nce upon a time, in a faraway land lived a very poor old man and an old woman. They had a small house near the edge of the sea. That is why every day the only thing they ate was the fish that the old man caught in the sea.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….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1. The old man and the old woman ate only fish because…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i="1" lang="en-US" sz="2500" spc="-1" strike="noStrike">
                <a:solidFill>
                  <a:srgbClr val="000000"/>
                </a:solidFill>
                <a:latin typeface="Calibri"/>
              </a:rPr>
              <a:t>they were very poo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i="1" lang="en-US" sz="2500" spc="-1" strike="noStrike">
                <a:solidFill>
                  <a:srgbClr val="000000"/>
                </a:solidFill>
                <a:latin typeface="Calibri"/>
              </a:rPr>
              <a:t>they didn’t like brea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i="1" lang="en-US" sz="2500" spc="-1" strike="noStrike">
                <a:solidFill>
                  <a:srgbClr val="000000"/>
                </a:solidFill>
                <a:latin typeface="Calibri"/>
              </a:rPr>
              <a:t>they caught fish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54061"/>
                </a:solidFill>
                <a:latin typeface="Calibri"/>
              </a:rPr>
              <a:t>Что такое НИКО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54061"/>
                </a:solidFill>
                <a:latin typeface="Calibri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Это общероссийская программа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о оценке качества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реднего образования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ачатая в 2014 году по инициативе Рособрнадзор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solidFill>
            <a:srgbClr val="d9969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Анализ типичных ошибок, допущенных участниками РП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анное задание предполагает умение учащегося использовать поисковое чтение в целях извлечения запрашиваемой информации. Для этого необходимо внимательно прочитать задание и обратить внимание на уточняющую деталь. В данном случае это слово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ONLY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” . (Почему они ели только рыбу? )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ля начала нужно исключить вариант ответа, которого нет в тексте (это вариант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). Далее смотрим, с чем связана информация про их бедность, и влияет ли это на то, что они ели только рыбу. Так же анализируем вариант про то, что они ловили рыбу. Так, что же было главной причиной такой неразнообразной еды?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solidFill>
            <a:srgbClr val="d9969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Анализ типичных ошибок, допущенных участниками РП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адание 3. Выбери правильный ответ на вопрос согласно информации из текста и обведи свой отве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hat did the Golden Fish give to the old man for the second tim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new hou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new troug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loaf of bre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адание 4. Расставь предложения в логическом порядк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nce upon a time, there lived a very poor old man and an old woma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t promised to grant (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сполнит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 any fisherman’s wish in retur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fisherman’s wife had many wishes and made her husband catch the fish again and agai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ne morning the fisherman caught the Golden Fish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the end the life of the fisherman and his wife became as poor as it had been befor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en the old man came home and told his wife about the Golden Fish, she ordered him to catch the Golden Fish and to wish for a loaf of brea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solidFill>
            <a:srgbClr val="d9969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Анализ типичных ошибок, допущенных участниками РП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914400" y="14126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анный вид задания – упрощённый вариант задания по чтению высокого уровня сложности в ЕГЭ и направлен на умение учащихся определять временную и причинно-следственную связь событий. Для этого нужно внимательно изучить формулировку задания и использовать изучающее чтение с целью полного понимания текста, что невозможно без владения определённым словарным запас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solidFill>
            <a:srgbClr val="d9969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нализ типичных ошибок, допущенных участниками РП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08000" y="2997360"/>
          <a:ext cx="9036000" cy="3384360"/>
        </p:xfrm>
        <a:graphic>
          <a:graphicData uri="http://schemas.openxmlformats.org/drawingml/2006/table">
            <a:tbl>
              <a:tblPr/>
              <a:tblGrid>
                <a:gridCol w="2511360"/>
                <a:gridCol w="6524640"/>
              </a:tblGrid>
              <a:tr h="563400">
                <a:tc>
                  <a:txBody>
                    <a:bodyPr lIns="68400" rIns="68400" tIns="0" bIns="0" anchor="t">
                      <a:noAutofit/>
                    </a:bodyPr>
                    <a:p>
                      <a:pPr marL="343080" indent="-343080">
                        <a:lnSpc>
                          <a:spcPct val="107000"/>
                        </a:lnSpc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ita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scow, London, Washington D.C., Par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5652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mmer, autumn, winter, spr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5634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lack, green, orange, 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563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nana, plum, apple, oran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5652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kirt, shorts, jeans, pullov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5634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eakfast, lunch, dinner, supp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  <p:sp>
        <p:nvSpPr>
          <p:cNvPr id="86" name="Прямоугольник 5"/>
          <p:cNvSpPr/>
          <p:nvPr/>
        </p:nvSpPr>
        <p:spPr>
          <a:xfrm>
            <a:off x="108000" y="1450800"/>
            <a:ext cx="903600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NewRomanPSMT"/>
              </a:rPr>
              <a:t>Задания по Лексике и Грамматик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NewRomanPSMT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дание 1. Выберите обобщающее слово из предложенных в скобках для каждой группы слов (</a:t>
            </a:r>
            <a:r>
              <a:rPr b="1" i="1" lang="de-DE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clothes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1" i="1" lang="de-DE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fruits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1" i="1" lang="de-DE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meals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1" i="1" lang="de-DE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seasons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1" i="1" lang="de-DE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colours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solidFill>
            <a:srgbClr val="d9969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Анализ типичных ошибок, допущенных участниками РП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946080" y="11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ое задание направлено на проверку понимания значения лексических единиц, связанных с изученной тематикой; умение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тезировать информацию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Как правило, для многих учащихся, данное задание не вызвало особых трудностей при выполнен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solidFill>
            <a:srgbClr val="d9969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Анализ типичных ошибок, допущенных участниками РП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28280"/>
            <a:ext cx="8229600" cy="493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адание 2*. Поставь глагол в правильную форм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 is a very unusual day today, because it is so quite at home. Now I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.(to do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my homework. Sometimes it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.(to be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very difficult, but I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o lik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to study. I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4. (to study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glish and Russian. These subjects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5.(to be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my favorite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y mother and father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6. (to go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my Granny three hours ago. I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(to visit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her last weekend. S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8.(to bake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 delicious cake for m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934920" y="4938840"/>
          <a:ext cx="7274160" cy="1944720"/>
        </p:xfrm>
        <a:graphic>
          <a:graphicData uri="http://schemas.openxmlformats.org/drawingml/2006/table">
            <a:tbl>
              <a:tblPr/>
              <a:tblGrid>
                <a:gridCol w="3546720"/>
                <a:gridCol w="3727440"/>
              </a:tblGrid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 DO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539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539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538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</p:spTree>
  </p:cSld>
  <p:transition spd="slow">
    <p:circl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solidFill>
            <a:srgbClr val="d9969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Анализ типичных ошибок, допущенных участниками РП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9144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авильно использовать видо-временные формы глаголов традиционно вызывает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большие затруднения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ледует научить учащихся сначала сканировать предложенный текст на предмет </a:t>
            </a: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поиска указателей времени и других подсказок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. Например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 It is a very unusual day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toda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because it is so quite at home.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Now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I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1.(to do)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my homework.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лов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«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егодня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»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«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ейчас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»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являются маркерами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esent Continuous.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ледовательно, правильным вариантом будет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I am doing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40" y="9000"/>
            <a:ext cx="9144000" cy="1219320"/>
          </a:xfrm>
          <a:prstGeom prst="rect">
            <a:avLst/>
          </a:prstGeom>
          <a:solidFill>
            <a:srgbClr val="d9969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Анализ типичных ошибок, допущенных участниками РП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93720" y="1628640"/>
          <a:ext cx="8424720" cy="4813560"/>
        </p:xfrm>
        <a:graphic>
          <a:graphicData uri="http://schemas.openxmlformats.org/drawingml/2006/table">
            <a:tbl>
              <a:tblPr/>
              <a:tblGrid>
                <a:gridCol w="8424720"/>
              </a:tblGrid>
              <a:tr h="48135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е 1. Вчера вы с классом ходили в зоопарк. На «детской площадке» вы видели смешных маленьких медвежат и тигрят, которые играли вместе . Вы видели, как кормили слона. У выхода вам подарили надувные шарики разных цветов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иши электронное письмо другу (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-50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лов) и расскажи о том, как ты провел вчера день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забудь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титься к другу по имени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азать, где и с кем ты был/была вчера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казать, что ты делал/а или видел/а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исать свои ощущения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прощаться с другом и подписать письмо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circl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solidFill>
            <a:srgbClr val="d9969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Анализ типичных ошибок, допущенных участниками РП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32000" y="121896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Типичными ошибками при выполнении данного задания являются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- незнание, как пишется обращени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- незнание принятых норм вежливост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- скудная лексико-грамматическая база, не позволяющая выполнить поставленную коммуникативную задач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Важно не количество знаний, а качество их. Можно знать очень многое, не зная самого нужног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alibri"/>
              </a:rPr>
              <a:t>Л.Н. Толсто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3"/>
          <p:cNvSpPr/>
          <p:nvPr/>
        </p:nvSpPr>
        <p:spPr>
          <a:xfrm>
            <a:off x="684360" y="115920"/>
            <a:ext cx="8002440" cy="67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«Повышение конкурентоспособности российского образования и науки, международное взаимодействие в области образования — это залог успешного развития нашей образовательной системы и ее совершенствования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54061"/>
                </a:solidFill>
                <a:latin typeface="Calibri"/>
              </a:rPr>
              <a:t>Дмитрий Ливан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2120" y="1028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Связь результатов НИКО с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расположением образовательной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организаци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95280" y="217188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3"/>
          <p:cNvSpPr/>
          <p:nvPr/>
        </p:nvSpPr>
        <p:spPr>
          <a:xfrm>
            <a:off x="2286000" y="2967120"/>
            <a:ext cx="4572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NewRomanPSMT"/>
                <a:ea typeface="Arial"/>
              </a:rPr>
              <a:t>Результаты НИКО по иностранным языкам выше у участников из городских школ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30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Связь результатов НИКО с квалификационной категорией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учителей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39640" y="24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атистически значимая разница наблюдается только для учителей высшей квалификационной категории, результаты которых выше результатов учителей с другими квалификационными категориями. Такая ситуация зафиксирована и для пятиклассников, и для восьмиклассников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11280" y="1052640"/>
            <a:ext cx="80755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Связь результатов НИКО с педагогическим стажем учителей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403280" y="263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первые в течение проводимых исследований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не обнаружено связи результатов с педагогическим стажем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чителей, у которых учатся участники НИКО по иностранным языкам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27880" cy="22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Связь результатов НИКО с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годовыми школьными отметками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в предшествующем учебном году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914400" y="2363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примере результатов по английскому языку видно, что результаты НИКО пятиклассников в равной степени связаны со школьными отметками по иностранному языку, русскому языку и математике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39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Связь результатов НИКО с массовостью сдачи и уровнем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результатов ЕГЭ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равнение распределений отметок НИКО по английскому языку  в зависимости от уровня результатов ЕГЭ по иностранным языкам показывает увеличение процента двоек во всех группах регионов; увеличение во всех группах процента троек регионов. Меньшее снижение результатов наблюдается в группе регионов с высоким уровнем ЕГЭ по иностранным язык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Результаты НИКО в зависимости от кластера, к которому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относится регион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914400" y="306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При общем снижении уровня предметных результатов по английскому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языку разрыв между результатами школьников из «сильных», «средних»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и «слабых» групп регионов увеличивается от 5 класса к 8.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6840" y="1599840"/>
            <a:ext cx="84358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Сельские школьники используют иностранный язык менее часто и менее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разнообразно, чем городские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мальчиков  практика использования языка чаще связана с работой с компьютерными программами, чтением инструкций по пользованию гаджетами и общению со знакомым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девочек  для понимания текстов песенобщения во время поездок и просмотра фильмов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Выбор профессии участниками НИКО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гласно результатам анкетирования, подавляющее большинство участников НИКО 5 и 8 классов определились с выбором професси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иболее популярными среди участников НИКО являются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военная служба, журналистика и служба в полиции/прокуратуре/налоговых органах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нализ выполнения заданий диагностической работы по английскому языку по проверяемым умениям и навыкам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11280" y="1903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ровень иноязычной коммуникативной компетенции обучающихся 5  и 8 классов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не соответствует требованиям ФГОС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 подготовке выпускников начальной школ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более трети  в 5 классах и более половины в 8 кл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учающихся не справились с диагностической работой, у них не сформированы базовые умения и навыки в области английского языка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% выполнения заданий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395280" y="1600200"/>
          <a:ext cx="8291520" cy="4805280"/>
        </p:xfrm>
        <a:graphic>
          <a:graphicData uri="http://schemas.openxmlformats.org/drawingml/2006/table">
            <a:tbl>
              <a:tblPr/>
              <a:tblGrid>
                <a:gridCol w="6480360"/>
                <a:gridCol w="181116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53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удирование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с пониманием основного содержания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мысленное чтение текста вслух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ворение: монологическое высказывание на основе плана и визуальной информации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тение с пониманием основного содержания прочитанного текста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амма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екс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,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54061"/>
                </a:solidFill>
                <a:latin typeface="Calibri"/>
              </a:rPr>
              <a:t>С какими целями проводятся исследования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619280" y="1196640"/>
            <a:ext cx="752472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2540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4061"/>
                </a:solidFill>
                <a:latin typeface="Calibri"/>
              </a:rPr>
              <a:t>развитие единого образовательного пространства в Российской Федераци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2540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4061"/>
                </a:solidFill>
                <a:latin typeface="Calibri"/>
              </a:rPr>
              <a:t>совершенствование механизмов получения достоверной и содержательной информ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4061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254061"/>
                </a:solidFill>
                <a:latin typeface="Calibri"/>
              </a:rPr>
              <a:t>о состоянии системы образов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2540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4061"/>
                </a:solidFill>
                <a:latin typeface="Calibri"/>
              </a:rPr>
              <a:t>содействие эффективному внедрению ФГО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зультаты исследования показал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125360"/>
            <a:ext cx="86868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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изкий уровень сформированности навыков самоконтроля, включая навык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нимательного прочтения текста задания, сопоставления выполняемых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йствий с условием задания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 недостаточное развитие у обучающихся умения читать текст с пониманием основного содержания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 крайне низкий уровень сформированности устно-речевых навыков, умений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оворения и техники чтения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бщие выводы и рекомендации для учителей И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ейти на коммуникативно-когнитивную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тодику обучени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каз от информационно-рецептивного 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рамматико-переводного методов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пользование активных проблемных методов обучения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87280" y="5490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4061"/>
                </a:solidFill>
                <a:latin typeface="Calibri"/>
              </a:rPr>
              <a:t>Какие исследования проводятся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870120" y="1125000"/>
            <a:ext cx="824544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2540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54061"/>
                </a:solidFill>
                <a:latin typeface="Calibri"/>
              </a:rPr>
              <a:t>качества математического образован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2540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54061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254061"/>
                </a:solidFill>
                <a:latin typeface="Calibri"/>
              </a:rPr>
              <a:t>качества начального образования 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2540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54061"/>
                </a:solidFill>
                <a:latin typeface="Calibri"/>
              </a:rPr>
              <a:t>качества образования в области информационных технологий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1001"/>
              </a:spcBef>
              <a:buClr>
                <a:srgbClr val="2540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4061"/>
                </a:solidFill>
                <a:latin typeface="Calibri"/>
              </a:rPr>
              <a:t>качества образования в области иностранных языков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4061"/>
                </a:solidFill>
                <a:latin typeface="Calibri"/>
              </a:rPr>
              <a:t>           </a:t>
            </a:r>
            <a:r>
              <a:rPr b="1" lang="ru-RU" sz="4000" spc="-1" strike="noStrike">
                <a:solidFill>
                  <a:srgbClr val="254061"/>
                </a:solidFill>
                <a:latin typeface="Calibri"/>
              </a:rPr>
              <a:t>(октябрь 2016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3"/>
          <p:cNvSpPr/>
          <p:nvPr/>
        </p:nvSpPr>
        <p:spPr>
          <a:xfrm>
            <a:off x="2286000" y="23050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54061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640" y="46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54061"/>
                </a:solidFill>
                <a:latin typeface="Calibri"/>
              </a:rPr>
              <a:t>Кто является участниками исследований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116000" y="166068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ероприятия НИКО проводятся на выборке образовательных организац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( около 15 ) от каждого участвующего в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сследованиях субъекта Р Ф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ыборка составляется федеральными координатор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 каждой ОО  участвует вс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араллель выбранных класс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54061"/>
                </a:solidFill>
                <a:latin typeface="Calibri"/>
              </a:rPr>
              <a:t>Каковы процедуры исследований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307880" y="2421000"/>
            <a:ext cx="784836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54061"/>
                </a:solidFill>
                <a:latin typeface="Calibri"/>
              </a:rPr>
              <a:t>Проведение диагностических  рабо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54061"/>
                </a:solidFill>
                <a:latin typeface="Calibri"/>
              </a:rPr>
              <a:t>      </a:t>
            </a:r>
            <a:r>
              <a:rPr b="1" lang="ru-RU" sz="3600" spc="-1" strike="noStrike">
                <a:solidFill>
                  <a:srgbClr val="254061"/>
                </a:solidFill>
                <a:latin typeface="Calibri"/>
              </a:rPr>
              <a:t>и анкетирова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20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54061"/>
                </a:solidFill>
                <a:latin typeface="Calibri"/>
              </a:rPr>
              <a:t>Каково содержание исследований по иностранным языкам в 5 , 8 классах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9144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остранный язык станет обязательным предметом для сдачи выпускникам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классов с 2020 года, а в число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язательных предметов ЕГЭ он буде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ен с 2022 г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104292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-во уч-ся, принявших участие в исследованиях :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0 000 из 800 школ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 более 35 тысяч участников выполняли работу по английскому языку и по 2000 – по французскому и немецкому.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нонимно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1T17:39:51Z</dcterms:created>
  <dc:creator>Катенок</dc:creator>
  <dc:description/>
  <dc:language>en-US</dc:language>
  <cp:lastModifiedBy>Татьяна</cp:lastModifiedBy>
  <dcterms:modified xsi:type="dcterms:W3CDTF">2017-08-24T18:07:35Z</dcterms:modified>
  <cp:revision>35</cp:revision>
  <dc:subject/>
  <dc:title>Презентация PowerPoint</dc:title>
</cp:coreProperties>
</file>